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C10-AE81-4986-9648-B5A92F64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A69-19C6-4E8C-A831-87E61C44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C9D-F7E9-4565-A9B0-E93CD2A2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3F8-E75B-4BAB-8E00-70D48C81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B39-9C7E-474A-9607-5B31B96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17D-8DD0-4730-BD7E-9008604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7EA-F3D0-4E72-8889-C438DA96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6B6-15F1-42D0-BBE9-5851B69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C73-D866-48BE-800D-82CC08A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AA7-7DFF-4C57-B0F0-E5A53E94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1C5-BE87-4897-95B8-B8AA060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A24-4B0D-4551-BE55-2F0642A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92B-0DAF-47A9-A38B-7DED8C36DBB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924360" y="2637000"/>
            <a:ext cx="496872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4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رسل روحَك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3645000"/>
            <a:ext cx="9144000" cy="18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ميا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16280"/>
            <a:ext cx="52196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 الروحَ يشه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ع أرواح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أننا أبناء ال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Personal</cp:lastModifiedBy>
  <dcterms:modified xsi:type="dcterms:W3CDTF">2008-04-23T17:22:08Z</dcterms:modified>
  <cp:revision>9</cp:revision>
  <dc:subject/>
  <dc:title>Slide 1</dc:title>
</cp:coreProperties>
</file>